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87141"/>
        <c:axId val="29886348"/>
      </c:barChart>
      <c:catAx>
        <c:axId val="61087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6348"/>
        <c:crosses val="autoZero"/>
        <c:auto val="1"/>
        <c:lblAlgn val="ctr"/>
        <c:lblOffset val="100"/>
        <c:noMultiLvlLbl val="0"/>
      </c:catAx>
      <c:valAx>
        <c:axId val="29886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87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CA1-D3AF-4DB4-99E9-62BF8A4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957-942F-4032-8A41-AD006DAC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A6A-D01D-4267-8124-B5380737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A92-4F9E-4B7B-B0A1-AEEE5FD2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33C-8FB3-4C07-9817-C32D096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12B-8F47-4E4F-A610-6094AA04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664-62C3-4944-8D1B-61CBA79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9E4-E84F-4D1D-ADAD-EB06707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6EE-5230-4552-BEAA-2AFBFAF4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61B-D7F6-495B-8E42-DAF024B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C7F-AC85-473D-8FB3-CF04C05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CCF-EE90-4EBB-B251-E8F21E3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3680-554D-48FF-AC40-D763E5E60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